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54B-A504-455C-8F8C-98B275E5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E47-CE3A-425F-A0C2-A81941E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3B8-7BDB-4561-81B5-8A4055D0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9E3-21FB-44CF-934E-29DC81B8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39F-9CC0-45C0-A2AD-A7286F7A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FA0-F6D8-4236-8F6A-5EA766CC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BAB-C96F-4823-A4FE-4A567950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403-1CF8-4724-9FED-A07FBA56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CCF-B51B-4E4F-87C7-89B53A99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176-B71F-413E-975C-0DD50757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761-A176-46FB-92AB-3306C72E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9D9-FACF-49F0-95B1-034F9AC9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7EC3-0422-4D09-84A5-66C187FC0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46:05Z</dcterms:created>
  <dc:creator>abeason</dc:creator>
  <dc:description/>
  <dc:language>en-US</dc:language>
  <cp:lastModifiedBy>abeason</cp:lastModifiedBy>
  <dcterms:modified xsi:type="dcterms:W3CDTF">2008-11-03T16:46:09Z</dcterms:modified>
  <cp:revision>1</cp:revision>
  <dc:subject/>
  <dc:title>Slide 1</dc:title>
</cp:coreProperties>
</file>